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12960" y="279360"/>
            <a:ext cx="130302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11258280" y="9330480"/>
            <a:ext cx="160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R. Deuber, KSB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iO</a:t>
            </a:r>
            <a:r>
              <a:rPr b="0" lang="en-US" sz="36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-Solarzell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-124200" y="7846920"/>
            <a:ext cx="12901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Prototypen von TiO</a:t>
            </a:r>
            <a:r>
              <a:rPr b="0" lang="en-US" sz="3600" spc="-1" strike="noStrike" baseline="-6000">
                <a:solidFill>
                  <a:srgbClr val="ffffff"/>
                </a:solidFill>
                <a:latin typeface="Gill San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-Solarzellen (Quelle: Fraunhofer Institut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6210360" y="2463840"/>
            <a:ext cx="5994360" cy="48513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851040" y="2451240"/>
            <a:ext cx="4863960" cy="48639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andioxid_solarzelle_movie_01.mpg" descr="Macintosh HD:Daten:Chemie und Materie II urlaub 2009:05_titandioxid_solarzelle:titandioxid_solarzelle_powerpoint:titandioxid_solarzelle_movie_01.mpg"/>
          <p:cNvPicPr/>
          <p:nvPr/>
        </p:nvPicPr>
        <p:blipFill>
          <a:blip r:embed="rId1"/>
          <a:stretch/>
        </p:blipFill>
        <p:spPr>
          <a:xfrm>
            <a:off x="939960" y="711360"/>
            <a:ext cx="11125080" cy="833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632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ösung der Aufgab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247840" y="1650960"/>
            <a:ext cx="8496360" cy="73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ebenszyklusbetrachtung von TiO</a:t>
            </a:r>
            <a:r>
              <a:rPr b="0" lang="en-US" sz="36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-Solarzell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24379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Halb so grosse energetische Amortisationszeit im Vergleich zu konventionellen Solarzellen. 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853200" indent="-5482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Geringere Produktionskosten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853200" indent="-5482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Positive sozial-gesellschaftliche Auswirkungen durch die Nutzung in Entwicklungs- und Schwellenländern aufgrund der günstigeren Anschaffungspreis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Gill Sans"/>
              </a:rPr>
              <a:t>    </a:t>
            </a:r>
            <a:r>
              <a:rPr b="0" i="1" lang="en-US" sz="3400" spc="-1" strike="noStrike">
                <a:solidFill>
                  <a:srgbClr val="ffffff"/>
                </a:solidFill>
                <a:latin typeface="Gill Sans"/>
              </a:rPr>
              <a:t>Quelle: Fraunhofer Institut 2008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iO</a:t>
            </a:r>
            <a:r>
              <a:rPr b="0" lang="en-US" sz="36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-Solarzelle: Marktreife Produkt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6883560" y="3352680"/>
            <a:ext cx="4698720" cy="33148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1701720" y="2603520"/>
            <a:ext cx="4114800" cy="48132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8" name="Rectangle 4"/>
          <p:cNvSpPr/>
          <p:nvPr/>
        </p:nvSpPr>
        <p:spPr>
          <a:xfrm>
            <a:off x="482760" y="7962840"/>
            <a:ext cx="120268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„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ye sensitized thin film“ der Firm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G24 Innov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Prinzip der TiO2-Solarzell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397160" y="2070000"/>
            <a:ext cx="10199520" cy="68198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iO2-Solarzelle: Details I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511280" y="1911240"/>
            <a:ext cx="9969480" cy="67946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iO2-Solarzelle: Details II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52480" y="2006640"/>
            <a:ext cx="9491760" cy="67816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Verbindung zwischen Anthocyanfarbstoff und TiO</a:t>
            </a:r>
            <a:r>
              <a:rPr b="0" lang="en-US" sz="3600" spc="-1" strike="noStrike" baseline="-6000">
                <a:solidFill>
                  <a:srgbClr val="000000"/>
                </a:solidFill>
                <a:latin typeface="Gill San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-Schich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679840" y="2209680"/>
            <a:ext cx="7632720" cy="65278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ill Sans"/>
              </a:rPr>
              <a:t>Zusammenfassu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133720" y="2171880"/>
            <a:ext cx="8064360" cy="60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Professioneller Farbstoff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705040" y="1816200"/>
            <a:ext cx="7581960" cy="67467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oger Deuber</cp:lastModifiedBy>
  <dcterms:modified xsi:type="dcterms:W3CDTF">2009-09-23T13:05:44Z</dcterms:modified>
  <cp:revision>2</cp:revision>
  <dc:subject/>
  <dc:title>TiO2-Solarzelle</dc:title>
</cp:coreProperties>
</file>